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B4BA-8A5A-460B-80A9-B91EC329B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D5BD-067A-40F9-92BA-D272C167B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3FEB-E76A-4C5F-BB91-4F051A11C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A09A-FBEC-4A7E-81B5-F234FB194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3C4A-B049-4680-9099-DAE4E492D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50BF-9FA5-4D00-AFD3-C6EAA99E8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13CB-2714-423E-AD85-A7F564DB4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EC52-68D1-4D1F-AAFD-D351808FA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593C-D1E3-4A21-AB90-82DA1D186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AE49-7939-485A-B237-AED71028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0E7F-3435-4182-B810-A762903B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B203-D931-4188-B84A-2A187D63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B9323-6333-4C58-875A-87257B79BA2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englishrussia.com/images/weird_russian_matreshkas/1.jpg&amp;imgrefurl=http://englishrussia.com/index.php/2007/09/11/weird-looking-russian-matryoshkas/&amp;usg=__skfFu8W5R2cT_CUFGKa9q4hcNM4=&amp;h=376&amp;w=500&amp;sz=34&amp;hl=en&amp;start=1&amp;zoom=1&amp;um=1&amp;itbs=1&amp;tbnid=txzzrHkzS-R3ZM:&amp;tbnh=98&amp;tbnw=130&amp;prev=/images%3Fq%3Drussian%2Bculture%26um%3D1%26hl%3Den%26sa%3DN%26tbs%3Disch: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red-october.net/wp-content/uploads/2008/12/russian-ballet.jpg&amp;imgrefurl=http://www.red-october.net/2006/05/music-and-the-arts/&amp;usg=__PW1f6lpxsuCzFu1LvhD58omappU=&amp;h=343&amp;w=300&amp;sz=18&amp;hl=en&amp;start=1&amp;zoom=1&amp;um=1&amp;itbs=1&amp;tbnid=eYsBw0CRE2UqvM:&amp;tbnh=120&amp;tbnw=105&amp;prev=/images%3Fq%3Drussian%2Bballet%26um%3D1%26hl%3Den%26sa%3DN%26tbs%3Disch: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waytorussia.net/userfiles/image/WhatIsRussia/RussianFood/Soups/borcsh.jpg&amp;imgrefurl=http://www.waytorussia.net/WhatIsRussia/RussianFood/Soups.html&amp;usg=__1eZRkBcoQgEBanWZV-_x5Gvgu7o=&amp;h=180&amp;w=200&amp;sz=24&amp;hl=en&amp;start=2&amp;zoom=1&amp;um=1&amp;itbs=1&amp;tbnid=ufnK1SDSZo40cM:&amp;tbnh=94&amp;tbnw=104&amp;prev=/images%3Fq%3Dtraditional%2Brussian%2Bfood%26um%3D1%26hl%3Den%26sa%3DX%26tbs%3Disch:1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google.com/imgres?imgurl=http://www.mosnews.com/photos/69/169_400x300.jpg&amp;imgrefurl=http://www.mosnews.com/weird/2009/03/06/deadlypancake/&amp;usg=__HVI1Tr6U8r_6stzFCzlTOP9RlZg=&amp;h=300&amp;w=400&amp;sz=145&amp;hl=en&amp;start=3&amp;zoom=1&amp;um=1&amp;itbs=1&amp;tbnid=YeTAIrsrXlhFtM:&amp;tbnh=93&amp;tbnw=124&amp;prev=/images%3Fq%3Drussian%2Bpancakes%26um%3D1%26hl%3Den%26sa%3DX%26tbs%3Disch:1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2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lture In Russ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: Julia Cassetta &amp; Clare Doher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4572000"/>
            <a:ext cx="2656080" cy="20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http://www.1uptravel.com/flags/images/rs-lgflag.gif"/>
          <p:cNvPicPr/>
          <p:nvPr/>
        </p:nvPicPr>
        <p:blipFill>
          <a:blip r:embed="rId1"/>
          <a:stretch/>
        </p:blipFill>
        <p:spPr>
          <a:xfrm>
            <a:off x="0" y="-136440"/>
            <a:ext cx="9144000" cy="6994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alibri"/>
              </a:rPr>
              <a:t>Relig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unist rulers severe limits on relig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tspoken lead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udaism , Islam, and Christia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rgest number practices Christian fait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ost popular religion 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usic, art, and liter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st place to find Russian culture is St. Petersburg’s the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ll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t museum in St. Petersbur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mous poet Alexander Pushkin proteste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o Tolstoy’s novel war and peace protes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24760" y="4876920"/>
            <a:ext cx="15336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eleb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w Years Ev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rth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ristm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rst day of m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o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would start with a soup called borsc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at (turn over'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10080" y="3733920"/>
            <a:ext cx="2743200" cy="2479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66680" y="3886200"/>
            <a:ext cx="302904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://t2.gstatic.com/images?q=tbn:njRWuYAsyACBoM:"/>
          <p:cNvPicPr/>
          <p:nvPr/>
        </p:nvPicPr>
        <p:blipFill>
          <a:blip r:embed="rId1"/>
          <a:stretch/>
        </p:blipFill>
        <p:spPr>
          <a:xfrm>
            <a:off x="5943600" y="2819520"/>
            <a:ext cx="2973240" cy="38433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Calibri"/>
              </a:rPr>
              <a:t>Langu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similar to o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of the same letters look the same but do not sound the sa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6:43:35Z</dcterms:created>
  <dc:creator> </dc:creator>
  <dc:description/>
  <dc:language>en-US</dc:language>
  <cp:lastModifiedBy> </cp:lastModifiedBy>
  <dcterms:modified xsi:type="dcterms:W3CDTF">2010-12-15T22:22:48Z</dcterms:modified>
  <cp:revision>7</cp:revision>
  <dc:subject/>
  <dc:title>Culture</dc:title>
</cp:coreProperties>
</file>